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7A0-5984-4D0C-897B-76C1616D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8D3-164B-4818-8399-ED6B9B24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76F-149E-4B0A-90A6-05205136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7F4-DD64-4E1C-B190-E7424F67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72DA-D4F0-4E22-AB52-BC2F7852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EBA7-E3F9-4338-BAC1-ADB372F3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B517-09EE-40E6-9BF0-5AD3FFAF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D034-53C8-4A1E-BD1C-99F091D5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A5F7-7CEC-442C-86F2-7A0850AF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3412-4982-4E54-A5D1-DF552AE5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8421-2008-4455-B364-29E0A8FD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D53-9C38-4525-90A6-C331E418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E04D-16D5-4747-A8E6-E64F98D1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B7EE-4280-45E3-A469-E3B51B1E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D38E-8BF4-4C92-B406-DAE0DC41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9CFB-9E12-4EAB-8C2C-EA6402D9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2798-D2E3-4DC8-9F7B-BB8DFE9A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C501D-3378-4E58-9074-070ADC9D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2D642-9F83-4492-A5FE-2C92380F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167CA-BDDD-4D46-902C-F0736FD4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0465F-BCF5-49E5-8066-C9BDC26C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7CC03-D2C8-47ED-93FF-4C5CCE62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250-71F0-4530-A951-8D797D2F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39CB1-E2A4-419F-976B-0A1718A0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7B0B2-4C26-44E5-BA7D-4218E363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5D448-0627-4AD3-81AD-7B9341EB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4C9D5-A0C1-4201-BAB5-4FE93CF2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D93EB-31C0-4522-ADA9-DECD7534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EC421-F3A3-464D-ADA2-A11BA461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6EB95-05CC-4135-B896-5780F4FD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34AF2-9BEE-4FFA-818A-1D1373F5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4A912-3097-4ACF-A46D-B1C09540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1DBBF-DA7C-4B0A-B904-642923B5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F5C-446F-483D-825F-E617E7B2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AED83-FCFF-46E5-BB47-0D2EDBDA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9067C-EDB0-4789-94CE-C400862F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2BE80-C797-45C3-B37F-D7E9B206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C1F91-5CC0-42BE-AA9B-75D1C955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4B568-4877-4C83-BD53-064D7BA2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53E65-3186-4FDC-9C31-54E494A8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31158-9343-4D2A-B723-7DF987BE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6EE9A-7896-4ED4-BE0D-062F06C4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EB5C7-1256-40A7-B5B8-6C7F9F18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20CB3E-7C61-4123-89DF-6F6EBA5D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736-E65C-4797-B054-01875606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D68918-0028-438B-9BC9-47721182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D0AD8-4021-431A-A210-242C34D2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EE1BF-C340-4912-AD72-FC9DF709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FF976D-1722-4E39-9DBF-CDE47F2C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1EA3A-F92B-49AC-A703-88108454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C2155-2349-4631-B328-6D1AA829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AE276E-1663-4678-BC52-F47374A8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059F3-AA64-49E1-8F91-4F81B661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F1354-B064-46F8-815F-2CE1601C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C22A3-AAEB-4A35-80AC-83754A31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3A8-BB5B-4470-9B88-6E8DBF69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509CEA-6C60-4707-B4B4-EFF0113E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708FE-0949-4E8F-BE5C-309D295F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D30D5-C088-4090-8FBD-9BE20350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2EACBA-CBFA-4D28-A340-2B382607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C7039-FE7E-4C76-9B26-63EB5E5C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1A5140-9F39-40B8-A6DE-ECFE4E9B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B4FE4-77A4-44B0-9CC1-9531A59F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C15FFE-1E26-4CE7-9606-5CCD7A18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A8B4ED-A2A6-4B47-AB72-0F5C5502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21BAA-AB05-4AB7-9FFE-F92421A4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E32-2385-4A72-84DF-9F7EC969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EE0669-D3BD-47C6-BEEF-21384CD9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F6B02-BDAE-4EAC-958A-00E0EB01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92DEA-164E-4400-A1F1-46026785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82C077-3FC9-4016-8089-93135C8A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D398B7-B487-40E4-ABB8-E5A7CC00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7487EC-F0DE-4E72-A2D1-1073E05F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021AB-2D8E-479D-9FFC-E083CBE9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CDE1CF-ABB1-4C8D-8671-82DCDF0F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236E5-2E51-4774-8165-8B06364F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07181-88E3-4577-895B-BF674A4F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3DEC-2F90-40BA-98B0-8FFDADC3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77E5E6-06D3-4709-8B54-3934BEE5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1F4A4-E110-46B5-94B0-48FB8FD4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D54C12-923B-4C6F-908B-B0F5D44F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C8B58-3B1A-4DCA-BD22-3AC3B6F7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9610CC-175E-4571-B1B8-149F4C68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592-DB40-4BC3-9DBF-DA4ED251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接點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線接點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接點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直線接點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橢圓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2EDB-229A-4DD2-82C5-57EDC5E54F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線接點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線接點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線接點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線接點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線接點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線接點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橢圓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橢圓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橢圓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橢圓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橢圓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54C6-BA30-4E02-BC75-FEC2CFECA9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線接點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線接點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接點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接點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橢圓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4ED2-8492-4693-BFBC-40B69628BD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線接點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線接點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線接點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線接點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線接點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橢圓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橢圓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橢圓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橢圓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橢圓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線接點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7055-E637-4B29-BC1B-0A6B4479CB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線接點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線接點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線接點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線接點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橢圓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F5BE-3FEF-4D91-9A90-7C6BFA01B04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直線接點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線接點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線接點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線接點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線接點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橢圓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8BC8-A3B7-46F8-B18E-ACE13A5111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直線接點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橢圓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線接點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線接點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線接點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線接點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C806-8724-4805-A117-2D425FCC2E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is.ntct.edu.tw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tie.ntct.edu.tw/" TargetMode="External"/><Relationship Id="rId2" Type="http://schemas.openxmlformats.org/officeDocument/2006/relationships/hyperlink" Target="http://cissnet.edu.tw/safely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627280" y="1341360"/>
            <a:ext cx="5470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575f6d"/>
                </a:solidFill>
                <a:latin typeface="微軟正黑體"/>
                <a:ea typeface="微軟正黑體"/>
              </a:rPr>
              <a:t>工作報告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634920" y="3645000"/>
            <a:ext cx="403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575f6d"/>
                </a:solidFill>
                <a:latin typeface="Century Schoolbook"/>
              </a:rPr>
              <a:t>南投縣教育網路中心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2010.10.2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575f6d"/>
                </a:solidFill>
                <a:latin typeface="Century Schoolbook"/>
              </a:rPr>
              <a:t>日月潭教師會館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投影片編號版面配置區 5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D3BC-F932-47E5-8423-6C868A080F8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3b435b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度網路費已由教育處編列補助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,596,000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元整，補助名單及金額，請確認是否正確？並請１２月填妥領據送交林淑娟小姐，以利撥款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3b435b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南投縣資訊交流網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標楷體"/>
                <a:ea typeface="標楷體"/>
                <a:hlinkClick r:id="rId1"/>
              </a:rPr>
              <a:t>http://mis.ntct.edu.tw/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提供網管老師線上文件及討論板發問及解答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3b435b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本年度徵求１０所學校，由縣網中心輔導建置資安政策並提供網站弱點掃描服務。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申請表附於後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3b435b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DNS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SERVER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IPV6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正反解及學校網站的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IPV6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設定，明彰老師將協助學校修改建置，請與明彰老師連繫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　　學校網站請設定為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001:288: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Ｃ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XX::X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與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IPV4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同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，比較容易記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3b435b"/>
              </a:buClr>
              <a:buSzPct val="7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3b435b"/>
              </a:buClr>
              <a:buSzPct val="7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投影片編號版面配置區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9393-F51F-4EFC-AF3F-6ABD0DA15DA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3b435b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目前中華電信提供免費網路電話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gateway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並提供網外節費，結合學校原有總機系統，可將各分機升級為網路電話，不改變使用習慣，總機號碼請設定為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908XXX00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（別家廠商亦可）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不安裝節費系統，區網提供１０部語音匣道器給各申請安裝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3b435b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班級網路電話請保持上線，如有新增話機請至</a:t>
            </a:r>
            <a:r>
              <a:rPr b="0" lang="en-US" sz="2400" spc="-1" strike="noStrike" u="sng">
                <a:solidFill>
                  <a:srgbClr val="d2611c"/>
                </a:solidFill>
                <a:uFillTx/>
                <a:latin typeface="標楷體"/>
                <a:ea typeface="標楷體"/>
                <a:hlinkClick r:id="rId1"/>
              </a:rPr>
              <a:t>http://ntie.ntct.edu.tw/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　南投縣網路電話查號台做註冊，取得帳密設定於話機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3b435b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「資安防護學園連線闖關好禮多」</a:t>
            </a:r>
            <a:r>
              <a:rPr b="0" lang="en-US" sz="2400" spc="-1" strike="noStrike" u="sng">
                <a:solidFill>
                  <a:srgbClr val="d2611c"/>
                </a:solidFill>
                <a:uFillTx/>
                <a:latin typeface="標楷體"/>
                <a:ea typeface="標楷體"/>
                <a:hlinkClick r:id="rId2"/>
              </a:rPr>
              <a:t>http://cissnet.edu.tw/safely/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活動時間：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99.10.2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1.30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本縣需達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000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人次，請電腦課時讓學生參加（老師也有獎品）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3b435b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教育部年終考評公務填報說明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3b435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投影片編號版面配置區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4D07-C04F-4D57-B85D-ED9AF6FA936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575f6d"/>
                </a:solidFill>
                <a:latin typeface="Century Schoolbook"/>
              </a:rPr>
              <a:t>九、教育機構資通安全通報應變網站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(HTTPS://INFO.CERT.TANET.EDU.TW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entury Schoolbook"/>
              </a:rPr>
              <a:t>http://cert.tanet.edu.tw</a:t>
            </a:r>
            <a:r>
              <a:rPr b="0" lang="zh-TW" sz="2200" spc="-1" strike="noStrike">
                <a:solidFill>
                  <a:srgbClr val="000000"/>
                </a:solidFill>
                <a:latin typeface="Century Schoolbook"/>
              </a:rPr>
              <a:t>　</a:t>
            </a:r>
            <a:r>
              <a:rPr b="0" lang="fr-FR" sz="1500" spc="-1" strike="noStrike">
                <a:solidFill>
                  <a:srgbClr val="ff0000"/>
                </a:solidFill>
                <a:latin typeface="Century Schoolbook"/>
              </a:rPr>
              <a:t>TANet CERT </a:t>
            </a:r>
            <a:r>
              <a:rPr b="0" lang="zh-TW" sz="1500" spc="-1" strike="noStrike">
                <a:solidFill>
                  <a:srgbClr val="ff0000"/>
                </a:solidFill>
                <a:latin typeface="Century Schoolbook"/>
              </a:rPr>
              <a:t>臺灣學術網路危機處理中心</a:t>
            </a:r>
            <a:br>
              <a:rPr sz="1900"/>
            </a:br>
            <a:r>
              <a:rPr b="0" lang="zh-TW" sz="1700" spc="-1" strike="noStrike">
                <a:solidFill>
                  <a:srgbClr val="000000"/>
                </a:solidFill>
                <a:latin typeface="Century Schoolbook"/>
              </a:rPr>
              <a:t>功能：提供各種資安訊息及活動資訊，以下所提的網頁皆可由此網站中前往。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entury Schoolbook"/>
              </a:rPr>
              <a:t>https://info.cert.tanet.edu.tw</a:t>
            </a:r>
            <a:r>
              <a:rPr b="0" lang="zh-TW" sz="1900" spc="-1" strike="noStrike">
                <a:solidFill>
                  <a:srgbClr val="000000"/>
                </a:solidFill>
                <a:latin typeface="Century Schoolbook"/>
              </a:rPr>
              <a:t>　</a:t>
            </a:r>
            <a:r>
              <a:rPr b="0" lang="zh-TW" sz="1900" spc="-1" strike="noStrike">
                <a:solidFill>
                  <a:srgbClr val="ff0000"/>
                </a:solidFill>
                <a:latin typeface="Century Schoolbook"/>
              </a:rPr>
              <a:t>教育機構資安通報平臺</a:t>
            </a:r>
            <a:br>
              <a:rPr sz="1900"/>
            </a:br>
            <a:r>
              <a:rPr b="0" lang="zh-TW" sz="1900" spc="-1" strike="noStrike">
                <a:solidFill>
                  <a:srgbClr val="000000"/>
                </a:solidFill>
                <a:latin typeface="Century Schoolbook"/>
              </a:rPr>
              <a:t>功能：接獲資安事件簡訊通報後，請由此進行事件通報以及處理。</a:t>
            </a:r>
            <a:br>
              <a:rPr sz="1900"/>
            </a:br>
            <a:r>
              <a:rPr b="0" lang="zh-TW" sz="1900" spc="-1" strike="noStrike">
                <a:solidFill>
                  <a:srgbClr val="000000"/>
                </a:solidFill>
                <a:latin typeface="Century Schoolbook"/>
              </a:rPr>
              <a:t>　　　本信件所提供的帳號及密碼為此網頁登入時使用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Century Schoolbook"/>
              </a:rPr>
              <a:t>　　　　　注意事項：請各學校單位進入系統後先行修改密碼，並更新單位聯絡人資訊。 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entury Schoolbook"/>
              </a:rPr>
              <a:t>https://elearning.aisac.tanet.edu.tw </a:t>
            </a:r>
            <a:r>
              <a:rPr b="0" lang="zh-TW" sz="1900" spc="-1" strike="noStrike">
                <a:solidFill>
                  <a:srgbClr val="000000"/>
                </a:solidFill>
                <a:latin typeface="Century Schoolbook"/>
              </a:rPr>
              <a:t>　</a:t>
            </a:r>
            <a:r>
              <a:rPr b="0" lang="zh-TW" sz="1600" spc="-1" strike="noStrike">
                <a:solidFill>
                  <a:srgbClr val="ff0000"/>
                </a:solidFill>
                <a:latin typeface="Century Schoolbook"/>
              </a:rPr>
              <a:t>教育機構</a:t>
            </a:r>
            <a:r>
              <a:rPr b="0" lang="fr-FR" sz="1600" spc="-1" strike="noStrike">
                <a:solidFill>
                  <a:srgbClr val="ff0000"/>
                </a:solidFill>
                <a:latin typeface="Century Schoolbook"/>
              </a:rPr>
              <a:t>ISAC</a:t>
            </a:r>
            <a:r>
              <a:rPr b="0" lang="zh-TW" sz="1600" spc="-1" strike="noStrike">
                <a:solidFill>
                  <a:srgbClr val="ff0000"/>
                </a:solidFill>
                <a:latin typeface="Century Schoolbook"/>
              </a:rPr>
              <a:t>資安教育平台 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Century Schoolbook"/>
              </a:rPr>
              <a:t>　　功能：資安通報平台各種流程以及操作步驟說明。請使用”訪客”登入即可觀看相關內容。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entury Schoolbook"/>
              </a:rPr>
              <a:t>https://aisac.tanet.edu.tw</a:t>
            </a:r>
            <a:r>
              <a:rPr b="0" lang="zh-TW" sz="2200" spc="-1" strike="noStrike">
                <a:solidFill>
                  <a:srgbClr val="000000"/>
                </a:solidFill>
                <a:latin typeface="Century Schoolbook"/>
              </a:rPr>
              <a:t>　</a:t>
            </a:r>
            <a:r>
              <a:rPr b="0" lang="zh-TW" sz="2000" spc="-1" strike="noStrike">
                <a:solidFill>
                  <a:srgbClr val="ff0000"/>
                </a:solidFill>
                <a:latin typeface="Century Schoolbook"/>
              </a:rPr>
              <a:t>教育機構資安分享與分析中心</a:t>
            </a:r>
            <a:br>
              <a:rPr sz="2200"/>
            </a:br>
            <a:r>
              <a:rPr b="0" lang="zh-TW" sz="2200" spc="-1" strike="noStrike">
                <a:solidFill>
                  <a:srgbClr val="000000"/>
                </a:solidFill>
                <a:latin typeface="Century Schoolbook"/>
              </a:rPr>
              <a:t>功能：資安通報平台首頁，相關功能會陸續開放提供。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投影片編號版面配置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83C5-680D-49D9-A9E8-D4CDEC0C0C1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entury Schoolbook"/>
              </a:rPr>
              <a:t>教育機構資安通報平台帳號密碼之處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entury Schoolbook"/>
              </a:rPr>
              <a:t>密碼需每季更新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Century Schoolbook"/>
              </a:rPr>
              <a:t>根據教育部規範，各級資安人員之密碼需每季更新。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Century Schoolbook"/>
              </a:rPr>
              <a:t>教育機構資安通報平台將會主動寄發通知信提醒各級資安人員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請更新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位連絡人資料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entury Schoolbook"/>
              </a:rPr>
              <a:t>請上網填報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ois</a:t>
            </a:r>
            <a:r>
              <a:rPr b="1" lang="zh-TW" sz="2400" spc="-1" strike="noStrike">
                <a:solidFill>
                  <a:srgbClr val="000000"/>
                </a:solidFill>
                <a:latin typeface="Century Schoolbook"/>
              </a:rPr>
              <a:t>資料（公務填報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5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至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9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教育部 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99 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度學術機構分組資通安全通報演練，將寄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E-mail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及簡訊至各校資安連絡人，必須於１小時之內完成回報。計畫如附件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entury Schoolbook"/>
              </a:rPr>
              <a:t>個資洩漏事件請謹慎處理。不要將學生個資暴露於網站上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投影片編號版面配置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162A-AE75-4F86-8031-F00C9906396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6:51:31Z</dcterms:created>
  <dc:creator>ntct</dc:creator>
  <dc:description/>
  <dc:language>en-US</dc:language>
  <cp:lastModifiedBy>dem</cp:lastModifiedBy>
  <dcterms:modified xsi:type="dcterms:W3CDTF">2010-10-15T08:38:02Z</dcterms:modified>
  <cp:revision>37</cp:revision>
  <dc:subject/>
  <dc:title>工作報告</dc:title>
</cp:coreProperties>
</file>