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11.jpeg" ContentType="image/jpeg"/>
  <Override PartName="/ppt/media/image8.png" ContentType="image/png"/>
  <Override PartName="/ppt/media/suction.wav" ContentType="audio/x-wav"/>
  <Override PartName="/ppt/media/image3.jpeg" ContentType="image/jpeg"/>
  <Override PartName="/ppt/media/image15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FF1-B17B-4D85-9087-94451B0EBBB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7CA0-4603-4017-96AE-0E26544ED91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29CF-7694-4F33-AC9A-EA240252DFF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4EF-5F65-426B-BFF9-BCD46E310D2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E78C-AEDF-4CCF-B16C-74A7535F8EC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0EE-FF55-4640-BF2A-A2BB9896A39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FBAA-305A-4ED9-A9AA-410C9090F20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2FB-66AA-4CAD-9484-225F138003D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67F-E296-483C-B851-2D916AD3D16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F8-C9CE-4F3B-BB7B-CE45192B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5A1-89FF-4FA0-A9CF-E7C1BFA7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80C-E354-4BAC-B247-8C7847AF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489-C075-4528-AAD2-70D9440D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CFC9-0B4E-4603-8865-C643D1FA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F51E-65F3-4640-BC02-77BEBF05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700-1F37-43B5-BCC7-7ADB0AA8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58A2-EA25-405B-8363-A02D9AC5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9A5-AAA3-4482-BA8F-EDF8F64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D2C-0398-4CC0-8980-860FB36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293A-D980-4DED-8432-7C74A0D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B36-039B-40CC-9AE3-84619E9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6FD6-4A42-4FBE-BA75-5E37506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61E4-C577-4673-B801-96A1626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323E-54D6-4778-AD01-524938F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DED7-7FA9-4D0D-BE5D-0EB6AA7B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2189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38858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AC37-AB89-4862-B9ED-17C9F19D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73B-405E-41DC-97F7-C6CFC89F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4FC-E8D8-4898-9561-CD078FBD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D91-9544-484C-933A-168E6386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967-8098-4338-8D26-12F6947D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856-EB5A-4F4D-B7DB-4CE520C7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38858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E4E-B3A9-4979-9218-71FF76C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2189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2CB-7C2A-426A-BD2B-9777776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73F0-070D-4D71-8177-58319534D08D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904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11480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2402-1B90-4765-A206-2172FE7E031C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211.20.178.26/icct/crime/ReportDisplay.asp?TopicType=4&amp;sno=DHJEAI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ts.com.tw/wms/genasxnews.aspx?channel=1&amp;source=9604131900&amp;sno=006&amp;bandwidth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86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99"/>
                </a:solidFill>
                <a:latin typeface="華康中圓體"/>
              </a:rPr>
              <a:t>教師網路素養與認知</a:t>
            </a:r>
            <a:r>
              <a:rPr b="1" i="1" lang="zh-TW" sz="5400" spc="-1" strike="noStrike">
                <a:solidFill>
                  <a:srgbClr val="ffff99"/>
                </a:solidFill>
                <a:latin typeface="華康中圓體"/>
              </a:rPr>
              <a:t> 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00000" y="3716280"/>
            <a:ext cx="74311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cc"/>
                </a:solidFill>
                <a:latin typeface="華康細圓體"/>
                <a:ea typeface="華康細圓體"/>
              </a:rPr>
              <a:t>主講人：南投縣網　王登儀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細圓體"/>
                <a:ea typeface="華康細圓體"/>
              </a:rPr>
              <a:t> </a:t>
            </a:r>
            <a:r>
              <a:rPr b="0" lang="zh-TW" sz="3500" spc="-1" strike="noStrike">
                <a:solidFill>
                  <a:srgbClr val="ffffff"/>
                </a:solidFill>
                <a:latin typeface="Times New Roman"/>
                <a:ea typeface="華康細圓體"/>
              </a:rPr>
              <a:t>時間地點：南投縣日月潭教師會館</a:t>
            </a:r>
            <a:r>
              <a:rPr b="0" lang="zh-TW" sz="3500" spc="-1" strike="noStrike">
                <a:solidFill>
                  <a:srgbClr val="ffffff"/>
                </a:solidFill>
                <a:latin typeface="Times New Roman"/>
                <a:ea typeface="華康細圓體"/>
              </a:rPr>
              <a:t>200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華康細圓體"/>
              </a:rPr>
              <a:t>8.5.8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hopping &amp; </a:t>
            </a: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拍賣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082520"/>
            <a:ext cx="8362800" cy="577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300720" y="0"/>
            <a:ext cx="2016360" cy="907920"/>
          </a:xfrm>
          <a:prstGeom prst="roundRect">
            <a:avLst>
              <a:gd name="adj" fmla="val 1666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jay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新球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33cc"/>
                </a:solidFill>
                <a:latin typeface="Times New Roman"/>
              </a:rPr>
              <a:t>對日常生活產生影響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267920"/>
            <a:ext cx="377028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生活習慣的改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生活上運用選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7560" y="3068640"/>
            <a:ext cx="143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購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學習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聊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遊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拜拜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轉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6880" y="3048120"/>
            <a:ext cx="143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上街購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學校學習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電話聊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人遊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廟會拜拜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銀行轉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3284640"/>
            <a:ext cx="1800000" cy="28872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860640"/>
            <a:ext cx="1800000" cy="28908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4365720"/>
            <a:ext cx="1800000" cy="28872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941720"/>
            <a:ext cx="1800000" cy="28908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5516640"/>
            <a:ext cx="1800360" cy="28872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6021360"/>
            <a:ext cx="1800360" cy="28908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3760" y="273240"/>
            <a:ext cx="7988040" cy="82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參、網路禮節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禮節乃譯自美國佛羅里達州亞特蘭堤大學的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Arlene H. Rinaldi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女士於其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Netiquette HomePage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站上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(http://www.fau.edu/rinaldi/netiquette.html)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，所公佈名為「網路使用者指導原則與網路禮節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(The Net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User Guidelines and Netiquette)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」的文件，這份文件是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Rinaldi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女士多年來整理、研究並提倡網路文化及網路禮節的成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8900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66"/>
                </a:solidFill>
                <a:latin typeface="華康中特圓體"/>
                <a:ea typeface="華康中特圓體"/>
              </a:rPr>
              <a:t>網路禮儀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48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華康儷粗黑(P)"/>
                <a:ea typeface="華康儷粗黑(P)"/>
              </a:rPr>
              <a:t>網路禮儀即網路世界中的規範，讓使用者能進行理性互動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97180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1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對他人保持尊重的態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2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尊重他人隱私權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3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避免在網路相批評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4.</a:t>
            </a:r>
            <a:r>
              <a:rPr b="1" lang="zh-TW" sz="4000" spc="-1" strike="noStrike">
                <a:solidFill>
                  <a:srgbClr val="ffff66"/>
                </a:solidFill>
                <a:latin typeface="標楷體"/>
                <a:ea typeface="標楷體"/>
              </a:rPr>
              <a:t>尊重他人的著作權等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一、</a:t>
            </a:r>
            <a:r>
              <a:rPr b="1" i="1" lang="zh-TW" sz="4400" spc="-1" strike="noStrike" u="sng">
                <a:solidFill>
                  <a:srgbClr val="ffff99"/>
                </a:solidFill>
                <a:uFillTx/>
                <a:latin typeface="華康中特圓體"/>
                <a:ea typeface="華康中特圓體"/>
              </a:rPr>
              <a:t>言論</a:t>
            </a: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：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53416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　由於網路是一個開放的空間，而使用者又具有匿名性特質，社會規範首先有一般性的規範，如</a:t>
            </a:r>
            <a:r>
              <a:rPr b="0" lang="zh-TW" sz="3200" spc="-1" strike="noStrike">
                <a:solidFill>
                  <a:srgbClr val="ff33cc"/>
                </a:solidFill>
                <a:latin typeface="華康中特圓體"/>
                <a:ea typeface="華康中特圓體"/>
              </a:rPr>
              <a:t>文字簡潔清楚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、盡量</a:t>
            </a:r>
            <a:r>
              <a:rPr b="0" lang="zh-TW" sz="3200" spc="-1" strike="noStrike">
                <a:solidFill>
                  <a:srgbClr val="ff33cc"/>
                </a:solidFill>
                <a:latin typeface="華康中特圓體"/>
                <a:ea typeface="華康中特圓體"/>
              </a:rPr>
              <a:t>少使用語意難辨的注音文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等，這些基本規範看來簡單，但在網路隔著螢幕互對的溝通環境中，</a:t>
            </a:r>
            <a:r>
              <a:rPr b="1" lang="zh-TW" sz="3200" spc="-1" strike="noStrike">
                <a:solidFill>
                  <a:srgbClr val="ffccff"/>
                </a:solidFill>
                <a:latin typeface="華康中特圓體"/>
                <a:ea typeface="華康中特圓體"/>
              </a:rPr>
              <a:t>「表達清楚」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是非常重要的。遵守這些基本規範，可以使表達簡單易懂，而不易造成誤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549360"/>
            <a:ext cx="806436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另外，網路上的言論有幾個特別需要注意與遵守的規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應該要尊重他人，切忌出現揭露他人隱私的言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不宜在網路上不經當事人同意公布他人資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在網路互動上不要使用過度激烈的言詞，以免造成謾罵攻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不可在網路上散佈謠言，若有謠言傳來，也要要求自己當一個停止謠言的智者，不轉寄謠言信件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二、使用者禮儀：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0769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　在使用網路的過程，有幾個特別需要注意的規範，是建立在</a:t>
            </a:r>
            <a:r>
              <a:rPr b="1" lang="zh-TW" sz="3200" spc="-1" strike="noStrike">
                <a:solidFill>
                  <a:srgbClr val="ff33cc"/>
                </a:solidFill>
                <a:latin typeface="華康中特圓體"/>
                <a:ea typeface="華康中特圓體"/>
              </a:rPr>
              <a:t>「不僅讓自己使用網路方便，也使他人使用網路自在」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的互重基礎上。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首先是「頻寬」，使用網路時，若頻寬與他人共享，在使用上要特別注意傳送檔案大小。若多人使用網路、頻寬擁擠時，不宜傳送或下載大型檔案，而利用網路不繁忙的時候進行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</a:t>
            </a: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再者，在網路上與人互動時，若對方打字動作慢、語法有誤，應表現友善的態度，包容網路新手，並可協助對方逐漸熟悉網路操作。切忌嘲笑對方，甚至將之公諸於網路上，這是非常不道德的行為。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網路是一個互動的園地，同時也是一個資訊交流的場域，因此若有人在網路上提問，應就自己的能力所及盡可能分享知識與經驗。使這個資訊交流的場域豐富且人人受益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三、法律界線：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53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在網路上，因為資訊流通方便，又因匿名性使約束力量減低，因此很容易就觸犯法律。有幾個法律界線是要特別注意的：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(1)</a:t>
            </a:r>
            <a:r>
              <a:rPr b="0" lang="zh-TW" sz="3200" spc="-1" strike="noStrike">
                <a:solidFill>
                  <a:srgbClr val="ff0000"/>
                </a:solidFill>
                <a:latin typeface="華康中特圓體"/>
                <a:ea typeface="華康中特圓體"/>
              </a:rPr>
              <a:t>隱私權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：儘管網路無界限，然而在網路上每個人仍有其使用隱私權，絕不可侵入他人使用介面如電腦系統、電子郵件等，不管是窺探或竊取資料，都會造成侵犯隱私權的法律問題。另外，不經他人同意散佈他人隱私資料或個人資訊，也觸犯隱私權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53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(2)</a:t>
            </a:r>
            <a:r>
              <a:rPr b="0" lang="zh-TW" sz="3200" spc="-1" strike="noStrike">
                <a:solidFill>
                  <a:srgbClr val="ff0000"/>
                </a:solidFill>
                <a:latin typeface="華康中特圓體"/>
                <a:ea typeface="華康中特圓體"/>
              </a:rPr>
              <a:t>著作權</a:t>
            </a: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：因網路空間無限，因此各式資訊如影音、文字資料的流傳都十分方便，切忌任意下載檔案，或不經他人同意轉載轉錄他人言論、文字等，這將會構成侵犯著作權的犯行。轉錄他人文章或言論時，一定要經作者同意並註明出處；而下載行為則不得做商業用途等，都要特別注意。 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　　另外，在網路上散佈不實言論，而造成他人名譽上的損傷，則容易造成誹謗罪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壹、何謂網路素養 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076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網路素養是個人利用資訊網路與外界做合情、合理、合法而有效的溝通和互動所需具備的條件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肆、網路的犯罪行為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8883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媒介傳佈色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設立色情網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一夜情交易中心，媒介或自行設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網路一夜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銷售色情光碟影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聊天網站或其他方式進行援助交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cc"/>
                </a:solidFill>
                <a:latin typeface="華康中圓體"/>
              </a:rPr>
              <a:t>自拍、情色貼圖公然猥褻 散播情色資訊於網路聊天室間或公眾領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網路販賣違禁、管制物品、盜版光碟、贓物、侵犯他人著作權及商標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例如：在網路上販賣：</a:t>
            </a:r>
            <a:r>
              <a:rPr b="0" lang="en-US" sz="3200" spc="-1" strike="noStrike">
                <a:solidFill>
                  <a:srgbClr val="ffff66"/>
                </a:solidFill>
                <a:latin typeface="華康中圓體"/>
              </a:rPr>
              <a:t>FM2</a:t>
            </a: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、搖頭丸、毒品、其他禁藥、賣槍；盜版光碟：如俗稱泡麵或大補帖的盜版光碟、電影</a:t>
            </a:r>
            <a:r>
              <a:rPr b="0" lang="en-US" sz="3200" spc="-1" strike="noStrike">
                <a:solidFill>
                  <a:srgbClr val="ffff66"/>
                </a:solidFill>
                <a:latin typeface="華康中圓體"/>
              </a:rPr>
              <a:t>VCD</a:t>
            </a: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或音樂</a:t>
            </a:r>
            <a:r>
              <a:rPr b="0" lang="en-US" sz="3200" spc="-1" strike="noStrike">
                <a:solidFill>
                  <a:srgbClr val="ffff66"/>
                </a:solidFill>
                <a:latin typeface="華康中圓體"/>
              </a:rPr>
              <a:t>CD</a:t>
            </a: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等、贓物、仿冒品、交易偽鈔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教唆他人犯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例如：軍火教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華康中圓體"/>
              </a:rPr>
              <a:t>例如：自殺手冊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詐欺</a:t>
            </a:r>
            <a:br>
              <a:rPr sz="3200"/>
            </a:b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例如：網路銷售商品，收錢沒送貨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恐嚇</a:t>
            </a:r>
            <a:br>
              <a:rPr sz="3200"/>
            </a:b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例如：網路千面人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毀謗侮辱 妨害名譽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偽造文書</a:t>
            </a:r>
            <a:r>
              <a:rPr b="0" lang="en-US" sz="3200" spc="-1" strike="noStrike">
                <a:solidFill>
                  <a:srgbClr val="ffffff"/>
                </a:solidFill>
                <a:latin typeface="華康中圓體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公佈電話、地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公佈電子郵件帳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散佈寫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移植明星照片</a:t>
            </a: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駭客侵入與散佈電腦病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截取銀行帳號，密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截取其他個人隱私資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金融犯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木馬程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窺伺資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破壞或移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駭客大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華康中圓體"/>
              </a:rPr>
              <a:t>散佈電腦病毒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的犯罪行為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cont.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中圓體"/>
              </a:rPr>
              <a:t>網路賭博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66"/>
                </a:solidFill>
                <a:latin typeface="華康中圓體"/>
              </a:rPr>
              <a:t>例如：在網路上架設網頁，並提供賭博網站之功能，連續公然煽惑不特定之人上網賭博財物犯罪。</a:t>
            </a:r>
            <a:r>
              <a:rPr b="0" lang="zh-TW" sz="4000" spc="-1" strike="noStrike">
                <a:solidFill>
                  <a:srgbClr val="ffffff"/>
                </a:solidFill>
                <a:latin typeface="華康中圓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61722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0" y="3306600"/>
            <a:ext cx="9145440" cy="360"/>
            <a:chOff x="0" y="3306600"/>
            <a:chExt cx="9145440" cy="360"/>
          </a:xfrm>
        </p:grpSpPr>
        <p:sp>
          <p:nvSpPr>
            <p:cNvPr id="152" name=""/>
            <p:cNvSpPr/>
            <p:nvPr/>
          </p:nvSpPr>
          <p:spPr>
            <a:xfrm>
              <a:off x="0" y="3306600"/>
              <a:ext cx="91454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306600"/>
              <a:ext cx="91454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14400" y="228600"/>
            <a:ext cx="3886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c8003"/>
                </a:solidFill>
                <a:latin typeface="標楷體"/>
                <a:ea typeface="標楷體"/>
              </a:rPr>
              <a:t>案例討論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c8003"/>
                </a:solidFill>
                <a:latin typeface="標楷體"/>
                <a:ea typeface="標楷體"/>
              </a:rPr>
              <a:t>竊盜天堂寶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5800" y="1447920"/>
            <a:ext cx="4204080" cy="119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小宏知道小華的天堂帳號，而利用網路咖啡將小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天堂遊戲道具轉入自己帳號內，再轉賣給小琪賺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現金兩萬元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2057400"/>
            <a:ext cx="2133360" cy="4648320"/>
          </a:xfrm>
          <a:prstGeom prst="irregularSeal1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5840" y="32432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Times New Roman"/>
                <a:ea typeface="標楷體"/>
              </a:rPr>
              <a:t>竊盜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7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  <a:ea typeface="標楷體"/>
              </a:rPr>
              <a:t>案例討論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90720"/>
            <a:ext cx="9144000" cy="13737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宏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利用電子郵件暗藏「鍵盤側錄木馬程式」。讓小熊在不知情的情況下被「鍵盤側錄木馬程式」植入自己的電腦中，以致於</a:t>
            </a: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熊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每次上「地獄」遊戲網站輸入自己的使用者帳號與個人密碼時，遭到該木馬程式的側錄，並且自動透過電子郵件的系統，將該使用者帳號及個人密碼，寄送至小宏的電子郵件信箱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宏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因而不費吹灰之力，取得</a:t>
            </a:r>
            <a:r>
              <a:rPr b="1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小熊</a:t>
            </a:r>
            <a:r>
              <a:rPr b="0" lang="zh-TW" sz="2800" spc="-1" strike="noStrike">
                <a:solidFill>
                  <a:srgbClr val="eaeaea"/>
                </a:solidFill>
                <a:latin typeface="標楷體"/>
                <a:ea typeface="標楷體"/>
              </a:rPr>
              <a:t>的使用者帳號和個人密碼後，登入「地獄」遊戲網站，將小熊所擁有的「飛刀」、「斗篷」、「力量手套」等虛擬寶物，全部都轉移到自己在「地獄」遊戲中的使用者帳號內，變成是個人的虛擬寶物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6340320"/>
            <a:ext cx="693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案例判定參考網站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edu.tw/EDU_WEB/EDU_MGT/MOECC/EDU0688001/tanet/tanet-IPR/94plan/06_02_18.ht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-243000"/>
            <a:ext cx="9144000" cy="7101000"/>
          </a:xfrm>
          <a:prstGeom prst="irregularSeal1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3121200"/>
            <a:ext cx="52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華康中圓體"/>
              </a:rPr>
              <a:t>竊取他人線上遊戲虛擬寶物的行為，觸犯</a:t>
            </a:r>
            <a:r>
              <a:rPr b="1" lang="zh-TW" sz="2400" spc="-1" strike="noStrike">
                <a:solidFill>
                  <a:srgbClr val="ff0000"/>
                </a:solidFill>
                <a:latin typeface="華康中圓體"/>
              </a:rPr>
              <a:t>刑法第三百五十九條之「無故取得他人電磁記錄罪」</a:t>
            </a:r>
            <a:r>
              <a:rPr b="1" lang="zh-TW" sz="2400" spc="-1" strike="noStrike">
                <a:solidFill>
                  <a:srgbClr val="000099"/>
                </a:solidFill>
                <a:latin typeface="華康中圓體"/>
              </a:rPr>
              <a:t>，</a:t>
            </a:r>
            <a:r>
              <a:rPr b="1" lang="zh-TW" sz="2400" spc="-1" strike="noStrike">
                <a:solidFill>
                  <a:srgbClr val="000099"/>
                </a:solidFill>
                <a:latin typeface="華康中圓體"/>
              </a:rPr>
              <a:t>該條規定：「無故取得、刪除或變更他人電腦或其相關設備之電磁紀錄，致生損害於公眾或他人者，處五年以下有期徒刑、拘役或科或併科二十萬元以下罰金。」</a:t>
            </a:r>
            <a:r>
              <a:rPr b="0" lang="zh-TW" sz="2400" spc="-1" strike="noStrike">
                <a:solidFill>
                  <a:srgbClr val="ff0000"/>
                </a:solidFill>
                <a:latin typeface="華康中圓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華康中特圓體"/>
                <a:ea typeface="華康中特圓體"/>
              </a:rPr>
              <a:t>伍、系統安全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826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惡意程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病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網路蠕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木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間諜程式（</a:t>
            </a:r>
            <a:r>
              <a:rPr b="0" lang="en-US" sz="2800" spc="-1" strike="noStrike">
                <a:solidFill>
                  <a:srgbClr val="ffffff"/>
                </a:solidFill>
                <a:latin typeface="華康中圓體"/>
              </a:rPr>
              <a:t>Spyware</a:t>
            </a: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駭客入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中圓體"/>
              </a:rPr>
              <a:t>網路釣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2381040" cy="2306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2476440" cy="260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83664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標楷體"/>
              </a:rPr>
              <a:t>駭客入侵流程之流程圖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2080" y="2349360"/>
            <a:ext cx="7464600" cy="3200400"/>
            <a:chOff x="622080" y="2349360"/>
            <a:chExt cx="7464600" cy="3200400"/>
          </a:xfrm>
        </p:grpSpPr>
        <p:sp>
          <p:nvSpPr>
            <p:cNvPr id="169" name=""/>
            <p:cNvSpPr/>
            <p:nvPr/>
          </p:nvSpPr>
          <p:spPr>
            <a:xfrm>
              <a:off x="963720" y="2349360"/>
              <a:ext cx="799920" cy="3124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4360" y="2349360"/>
              <a:ext cx="879480" cy="3124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84560" y="2349360"/>
              <a:ext cx="881280" cy="3124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349360"/>
              <a:ext cx="799920" cy="320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4640" y="3492360"/>
              <a:ext cx="479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44840" y="3492360"/>
              <a:ext cx="479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3500280"/>
              <a:ext cx="10335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勘查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9360" y="2637000"/>
              <a:ext cx="10335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入侵或破壞系統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1600" y="3500280"/>
              <a:ext cx="6069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掃描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73720" y="3213000"/>
              <a:ext cx="1033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維持存取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86760" y="2349360"/>
              <a:ext cx="799920" cy="320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58080" y="2781360"/>
              <a:ext cx="1033560" cy="26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</a:rPr>
                <a:t>湮滅入侵記錄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47040" y="3340080"/>
              <a:ext cx="479160" cy="1066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26040" y="3416400"/>
              <a:ext cx="47952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33240" y="1160640"/>
            <a:ext cx="1336680" cy="8013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240" y="5772240"/>
            <a:ext cx="133668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3240" y="3967200"/>
            <a:ext cx="1336680" cy="8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8400" y="35712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8400" y="95868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8400" y="1560600"/>
            <a:ext cx="3209760" cy="40140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08400" y="216216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8400" y="309708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8400" y="3767040"/>
            <a:ext cx="3209760" cy="40032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8400" y="4435560"/>
            <a:ext cx="3209760" cy="40140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8400" y="510372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8400" y="5972040"/>
            <a:ext cx="3209760" cy="401760"/>
          </a:xfrm>
          <a:prstGeom prst="rect">
            <a:avLst/>
          </a:pr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23920" y="1293840"/>
            <a:ext cx="641520" cy="533520"/>
          </a:xfrm>
          <a:custGeom>
            <a:avLst/>
            <a:gdLst/>
            <a:ahLst/>
            <a:rect l="l" t="t" r="r" b="b"/>
            <a:pathLst>
              <a:path w="404" h="336">
                <a:moveTo>
                  <a:pt x="404" y="168"/>
                </a:moveTo>
                <a:lnTo>
                  <a:pt x="202" y="0"/>
                </a:lnTo>
                <a:lnTo>
                  <a:pt x="236" y="101"/>
                </a:lnTo>
                <a:lnTo>
                  <a:pt x="0" y="33"/>
                </a:lnTo>
                <a:lnTo>
                  <a:pt x="68" y="168"/>
                </a:lnTo>
                <a:lnTo>
                  <a:pt x="0" y="303"/>
                </a:lnTo>
                <a:lnTo>
                  <a:pt x="236" y="236"/>
                </a:lnTo>
                <a:lnTo>
                  <a:pt x="202" y="336"/>
                </a:lnTo>
                <a:lnTo>
                  <a:pt x="404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33240" y="333360"/>
            <a:ext cx="8558640" cy="2336040"/>
            <a:chOff x="633240" y="333360"/>
            <a:chExt cx="8558640" cy="2336040"/>
          </a:xfrm>
        </p:grpSpPr>
        <p:sp>
          <p:nvSpPr>
            <p:cNvPr id="197" name=""/>
            <p:cNvSpPr/>
            <p:nvPr/>
          </p:nvSpPr>
          <p:spPr>
            <a:xfrm>
              <a:off x="6736680" y="33336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ping, whois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06520" y="9810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IP spoofing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8240" y="160020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Nmap, Nessus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7160" y="22096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sniffe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3240" y="1160640"/>
              <a:ext cx="1336680" cy="80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31760" y="1447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準備階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08400" y="35712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5080" y="4460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網路勘查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8400" y="95868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78400" y="1038240"/>
              <a:ext cx="86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偽裝 </a:t>
              </a:r>
              <a:r>
                <a:rPr b="0" lang="en-US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/ </a:t>
              </a: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欺騙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8400" y="1560600"/>
              <a:ext cx="320976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0440" y="1644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掃描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08400" y="216216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0440" y="2252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竊聽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00440" y="384120"/>
              <a:ext cx="241200" cy="2139840"/>
            </a:xfrm>
            <a:custGeom>
              <a:avLst/>
              <a:gdLst/>
              <a:ahLst/>
              <a:rect l="l" t="t" r="r" b="b"/>
              <a:pathLst>
                <a:path w="152" h="1348">
                  <a:moveTo>
                    <a:pt x="152" y="0"/>
                  </a:moveTo>
                  <a:lnTo>
                    <a:pt x="0" y="0"/>
                  </a:lnTo>
                  <a:lnTo>
                    <a:pt x="0" y="1348"/>
                  </a:lnTo>
                  <a:lnTo>
                    <a:pt x="152" y="1348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23920" y="1293840"/>
              <a:ext cx="641520" cy="533520"/>
            </a:xfrm>
            <a:custGeom>
              <a:avLst/>
              <a:gdLst/>
              <a:ahLst/>
              <a:rect l="l" t="t" r="r" b="b"/>
              <a:pathLst>
                <a:path w="404" h="336">
                  <a:moveTo>
                    <a:pt x="404" y="168"/>
                  </a:moveTo>
                  <a:lnTo>
                    <a:pt x="202" y="0"/>
                  </a:lnTo>
                  <a:lnTo>
                    <a:pt x="236" y="101"/>
                  </a:lnTo>
                  <a:lnTo>
                    <a:pt x="0" y="33"/>
                  </a:lnTo>
                  <a:lnTo>
                    <a:pt x="68" y="168"/>
                  </a:lnTo>
                  <a:lnTo>
                    <a:pt x="0" y="303"/>
                  </a:lnTo>
                  <a:lnTo>
                    <a:pt x="236" y="236"/>
                  </a:lnTo>
                  <a:lnTo>
                    <a:pt x="202" y="336"/>
                  </a:lnTo>
                  <a:lnTo>
                    <a:pt x="404" y="168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023920" y="4127400"/>
            <a:ext cx="641520" cy="534960"/>
          </a:xfrm>
          <a:custGeom>
            <a:avLst/>
            <a:gdLst/>
            <a:ahLst/>
            <a:rect l="l" t="t" r="r" b="b"/>
            <a:pathLst>
              <a:path w="404" h="337">
                <a:moveTo>
                  <a:pt x="404" y="169"/>
                </a:moveTo>
                <a:lnTo>
                  <a:pt x="202" y="0"/>
                </a:lnTo>
                <a:lnTo>
                  <a:pt x="236" y="101"/>
                </a:lnTo>
                <a:lnTo>
                  <a:pt x="0" y="34"/>
                </a:lnTo>
                <a:lnTo>
                  <a:pt x="68" y="169"/>
                </a:lnTo>
                <a:lnTo>
                  <a:pt x="0" y="303"/>
                </a:lnTo>
                <a:lnTo>
                  <a:pt x="236" y="236"/>
                </a:lnTo>
                <a:lnTo>
                  <a:pt x="202" y="337"/>
                </a:lnTo>
                <a:lnTo>
                  <a:pt x="404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33240" y="3097080"/>
            <a:ext cx="8999640" cy="2468160"/>
            <a:chOff x="633240" y="3097080"/>
            <a:chExt cx="8999640" cy="2468160"/>
          </a:xfrm>
        </p:grpSpPr>
        <p:sp>
          <p:nvSpPr>
            <p:cNvPr id="215" name=""/>
            <p:cNvSpPr/>
            <p:nvPr/>
          </p:nvSpPr>
          <p:spPr>
            <a:xfrm>
              <a:off x="6708240" y="31240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Passwd crack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08960" y="38098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exploi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7520" y="4419720"/>
              <a:ext cx="29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Read, write, copy,…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8600" y="5105520"/>
              <a:ext cx="18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Trojan hors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240" y="3967200"/>
              <a:ext cx="1336680" cy="8017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64800" y="41148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攻擊及攻佔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8720" y="43830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後階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08400" y="309708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11160" y="3182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通行密碼破解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08400" y="3767040"/>
              <a:ext cx="320976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5080" y="38466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漏洞利用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08400" y="4435560"/>
              <a:ext cx="320976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5080" y="4524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主機存取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08400" y="510372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5080" y="5187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安置後門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0440" y="3111480"/>
              <a:ext cx="241200" cy="2352600"/>
            </a:xfrm>
            <a:custGeom>
              <a:avLst/>
              <a:gdLst/>
              <a:ahLst/>
              <a:rect l="l" t="t" r="r" b="b"/>
              <a:pathLst>
                <a:path w="152" h="1482">
                  <a:moveTo>
                    <a:pt x="152" y="0"/>
                  </a:moveTo>
                  <a:lnTo>
                    <a:pt x="0" y="0"/>
                  </a:lnTo>
                  <a:lnTo>
                    <a:pt x="0" y="1482"/>
                  </a:lnTo>
                  <a:lnTo>
                    <a:pt x="152" y="148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23920" y="4127400"/>
              <a:ext cx="641520" cy="534960"/>
            </a:xfrm>
            <a:custGeom>
              <a:avLst/>
              <a:gdLst/>
              <a:ahLst/>
              <a:rect l="l" t="t" r="r" b="b"/>
              <a:pathLst>
                <a:path w="404" h="337">
                  <a:moveTo>
                    <a:pt x="404" y="169"/>
                  </a:moveTo>
                  <a:lnTo>
                    <a:pt x="202" y="0"/>
                  </a:lnTo>
                  <a:lnTo>
                    <a:pt x="236" y="101"/>
                  </a:lnTo>
                  <a:lnTo>
                    <a:pt x="0" y="34"/>
                  </a:lnTo>
                  <a:lnTo>
                    <a:pt x="68" y="169"/>
                  </a:lnTo>
                  <a:lnTo>
                    <a:pt x="0" y="303"/>
                  </a:lnTo>
                  <a:lnTo>
                    <a:pt x="236" y="236"/>
                  </a:lnTo>
                  <a:lnTo>
                    <a:pt x="202" y="337"/>
                  </a:lnTo>
                  <a:lnTo>
                    <a:pt x="404" y="169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023920" y="5946840"/>
            <a:ext cx="641520" cy="533160"/>
          </a:xfrm>
          <a:custGeom>
            <a:avLst/>
            <a:gdLst/>
            <a:ahLst/>
            <a:rect l="l" t="t" r="r" b="b"/>
            <a:pathLst>
              <a:path w="404" h="336">
                <a:moveTo>
                  <a:pt x="404" y="168"/>
                </a:moveTo>
                <a:lnTo>
                  <a:pt x="202" y="0"/>
                </a:lnTo>
                <a:lnTo>
                  <a:pt x="236" y="101"/>
                </a:lnTo>
                <a:lnTo>
                  <a:pt x="0" y="33"/>
                </a:lnTo>
                <a:lnTo>
                  <a:pt x="68" y="168"/>
                </a:lnTo>
                <a:lnTo>
                  <a:pt x="0" y="303"/>
                </a:lnTo>
                <a:lnTo>
                  <a:pt x="236" y="236"/>
                </a:lnTo>
                <a:lnTo>
                  <a:pt x="202" y="336"/>
                </a:lnTo>
                <a:lnTo>
                  <a:pt x="404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33240" y="5772240"/>
            <a:ext cx="7067160" cy="803160"/>
            <a:chOff x="633240" y="5772240"/>
            <a:chExt cx="7067160" cy="803160"/>
          </a:xfrm>
        </p:grpSpPr>
        <p:sp>
          <p:nvSpPr>
            <p:cNvPr id="234" name=""/>
            <p:cNvSpPr/>
            <p:nvPr/>
          </p:nvSpPr>
          <p:spPr>
            <a:xfrm>
              <a:off x="6708960" y="594360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  <a:ea typeface="標楷體"/>
                </a:rPr>
                <a:t>DD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3240" y="5772240"/>
              <a:ext cx="1336680" cy="8031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31760" y="6062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毀滅階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08400" y="5972040"/>
              <a:ext cx="320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5080" y="6062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阻絕服務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00440" y="5838840"/>
              <a:ext cx="241200" cy="695160"/>
            </a:xfrm>
            <a:custGeom>
              <a:avLst/>
              <a:gdLst/>
              <a:ahLst/>
              <a:rect l="l" t="t" r="r" b="b"/>
              <a:pathLst>
                <a:path w="152" h="438">
                  <a:moveTo>
                    <a:pt x="152" y="0"/>
                  </a:moveTo>
                  <a:lnTo>
                    <a:pt x="0" y="0"/>
                  </a:lnTo>
                  <a:lnTo>
                    <a:pt x="0" y="438"/>
                  </a:lnTo>
                  <a:lnTo>
                    <a:pt x="152" y="438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23920" y="5946840"/>
              <a:ext cx="641520" cy="533160"/>
            </a:xfrm>
            <a:custGeom>
              <a:avLst/>
              <a:gdLst/>
              <a:ahLst/>
              <a:rect l="l" t="t" r="r" b="b"/>
              <a:pathLst>
                <a:path w="404" h="336">
                  <a:moveTo>
                    <a:pt x="404" y="168"/>
                  </a:moveTo>
                  <a:lnTo>
                    <a:pt x="202" y="0"/>
                  </a:lnTo>
                  <a:lnTo>
                    <a:pt x="236" y="101"/>
                  </a:lnTo>
                  <a:lnTo>
                    <a:pt x="0" y="33"/>
                  </a:lnTo>
                  <a:lnTo>
                    <a:pt x="68" y="168"/>
                  </a:lnTo>
                  <a:lnTo>
                    <a:pt x="0" y="303"/>
                  </a:lnTo>
                  <a:lnTo>
                    <a:pt x="236" y="236"/>
                  </a:lnTo>
                  <a:lnTo>
                    <a:pt x="202" y="336"/>
                  </a:lnTo>
                  <a:lnTo>
                    <a:pt x="404" y="168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med"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華康中圓體"/>
              </a:rPr>
              <a:t>「網路素養」的內涵 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認知層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瞭解資訊網路在人類生活的應用和影響，並具備使用資訊網路的基礎概念和知識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技能層面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熟悉資訊網路的各種操作技巧，並能進行資訊的搜尋、處理、分析、傳輸、發表等作業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中圓體"/>
              </a:rPr>
              <a:t>情意層面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中圓體"/>
              </a:rPr>
              <a:t>培養運用資訊網路的良好習慣，並能遵守相關的倫理、法律規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標楷體"/>
              </a:rPr>
              <a:t>未來入侵及攻擊趨勢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駭客攻擊目標轉向</a:t>
            </a:r>
            <a:r>
              <a:rPr b="0" lang="zh-TW" sz="3200" spc="-1" strike="noStrike">
                <a:solidFill>
                  <a:srgbClr val="ff33cc"/>
                </a:solidFill>
                <a:latin typeface="標楷體"/>
              </a:rPr>
              <a:t>企業內部的個人電腦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及利用</a:t>
            </a:r>
            <a:r>
              <a:rPr b="0" lang="zh-TW" sz="3200" spc="-1" strike="noStrike">
                <a:solidFill>
                  <a:srgbClr val="ff33cc"/>
                </a:solidFill>
                <a:latin typeface="標楷體"/>
              </a:rPr>
              <a:t>寬頻上網的個人電腦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具破壞力的工具被公開，且取得容易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攻擊後，</a:t>
            </a:r>
            <a:r>
              <a:rPr b="0" lang="zh-TW" sz="3200" spc="-1" strike="noStrike">
                <a:solidFill>
                  <a:srgbClr val="ff33cc"/>
                </a:solidFill>
                <a:latin typeface="標楷體"/>
              </a:rPr>
              <a:t>資訊被竊聽與敏感性資料外洩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、被有心人士利用而造成損失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無線網路與網路基礎建設成為下一波攻擊標的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Verdana"/>
              </a:rPr>
              <a:t>網路釣魚</a:t>
            </a:r>
            <a:r>
              <a:rPr b="1" i="1" lang="en-US" sz="4400" spc="-1" strike="noStrike">
                <a:solidFill>
                  <a:srgbClr val="ffff99"/>
                </a:solidFill>
                <a:latin typeface="Verdana"/>
              </a:rPr>
              <a:t>(Phishing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ishing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這個新名詞，是將英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ing(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釣魚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的第一個英文字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"f"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，改變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"ph"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姜太公釣魚，願者上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另一種詐騙形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用來取得帳號密碼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0" b="2707"/>
          <a:stretch/>
        </p:blipFill>
        <p:spPr>
          <a:xfrm>
            <a:off x="3801960" y="4648320"/>
            <a:ext cx="534204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網路釣魚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(Phishing)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透過社交工程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engineering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主要利用「偽造電子郵件與網站」為誘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68800" cy="4681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17672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685800"/>
            <a:ext cx="6400800" cy="38088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15920" y="7632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原本的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US Bank</a:t>
            </a: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網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95480" y="304920"/>
            <a:ext cx="3886200" cy="38088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380880"/>
            <a:ext cx="380880" cy="228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06240" y="586728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偽造的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US Bank</a:t>
            </a:r>
            <a:r>
              <a:rPr b="1" lang="zh-TW" sz="2400" spc="-1" strike="noStrike">
                <a:solidFill>
                  <a:srgbClr val="ff33cc"/>
                </a:solidFill>
                <a:latin typeface="Times New Roman"/>
                <a:ea typeface="標楷體"/>
              </a:rPr>
              <a:t>網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使用資訊科技的安全防護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你的密碼安全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你的密碼是什麼？生日？三圍？手機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什麼密碼才安全呢？如何設定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你的密碼設定的很好，問題是被人家知道了，怎麼會讓人家知道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選擇安全的密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-8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個大小寫字母及符號混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對自己有意義容易記得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如：小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利用鍵盤上注音輸入法對應自己名字的字元當密碼：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ul3au/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使用資訊科技的安全防護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個人隱私資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網路上註冊資料隨便填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不要將班級通訊錄放到網路上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保護個人隱私資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加解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注意個人隱私資訊外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28800" y="5334120"/>
            <a:ext cx="5353200" cy="11142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828800" y="5334120"/>
            <a:ext cx="5353200" cy="116208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隨手做保密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電腦須登入帳號密碼後方能使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審慎使用網路芳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建議改用其他傳遞方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N, Sky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我的文件－加密內容，保護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機敏檔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oc, xls, ppt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加密存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使用壓縮程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zip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或專屬程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GP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加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離機自動螢幕保護上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其他個人安全防護的小秘訣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定期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備份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重要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加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機敏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定期進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/Office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Up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安裝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防火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定期更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安裝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防毒軟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定期更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安裝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</a:rPr>
              <a:t>反間諜軟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定期更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勿點選來路不明之電子郵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勿安裝來路不明軟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99"/>
                </a:solidFill>
                <a:latin typeface="Times New Roman"/>
              </a:rPr>
              <a:t>教育部中小學教師</a:t>
            </a:r>
            <a:br>
              <a:rPr sz="6600"/>
            </a:br>
            <a:r>
              <a:rPr b="0" lang="zh-TW" sz="6600" spc="-1" strike="noStrike">
                <a:solidFill>
                  <a:srgbClr val="ffff99"/>
                </a:solidFill>
                <a:latin typeface="Times New Roman"/>
              </a:rPr>
              <a:t>網路素養與認知網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Times New Roman"/>
              </a:rPr>
              <a:t>http://eteacher.edu.tw/ </a:t>
            </a:r>
            <a:endParaRPr b="1" i="1" lang="en-US" sz="6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05264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華康中特圓體"/>
                <a:ea typeface="華康中特圓體"/>
              </a:rPr>
              <a:t>貳、資訊科技與網際網路你運用來做什麼？</a:t>
            </a:r>
            <a:endParaRPr b="1" i="1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708280"/>
            <a:ext cx="2880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收發公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辦公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看股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</a:rPr>
              <a:t>打電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……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40000" y="2707920"/>
            <a:ext cx="39589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收發</a:t>
            </a:r>
            <a:r>
              <a:rPr b="1" lang="en-US" sz="3200" spc="-1" strike="noStrike">
                <a:solidFill>
                  <a:srgbClr val="ffff66"/>
                </a:solidFill>
                <a:latin typeface="華康中圓體"/>
              </a:rPr>
              <a:t>e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看看新聞網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查詢資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華康中圓體"/>
              </a:rPr>
              <a:t>交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華康中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華康中圓體"/>
              </a:rPr>
              <a:t>……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9399" t="18231" r="11230" b="27647"/>
          <a:stretch/>
        </p:blipFill>
        <p:spPr>
          <a:xfrm>
            <a:off x="0" y="260280"/>
            <a:ext cx="921708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何謂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er to Peer (P2P)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這是一種利用網際網路作為主要媒介的新型態網路技術；根據在網路中各個使用者的資源，利用演算法，動態調整需求標的，而不是把需求都聚集在固定的幾台伺服器上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另，所有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軟體一定會有上傳跟下載流量，絕不可能只有下載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何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t-Torrent(BT)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基本上，這可以算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協定上的進化版本，比起其他點對點的協議，這個協定特點簡單的說就是：下載的人越多，速度越快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t-Torrent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簡介：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原由美籍工程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m Cohen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所撰寫；有不少的高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軟體，參考他的設計架構修改而來。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現今，因開發者及後續衍生的版本眾多，所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現在變成一個代名詞，而不是專指一套軟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b Box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簡介：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原來是由韓國廠商釋出，每位使用安裝後，系統會在遠端建立一個只存在十天的虛擬空間供上傳，但如果下載人數增多，則可再延長時間，並獲取點數而升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華康魏碑體"/>
              </a:rPr>
              <a:t>FOXY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</a:rPr>
              <a:t>簡介：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華康魏碑體"/>
              </a:rPr>
              <a:t>　原來是由中國大陸廠商釋出，其程式基於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</a:rPr>
              <a:t>Bit-Torrent</a:t>
            </a:r>
            <a:r>
              <a:rPr b="0" lang="en-US" sz="3200" spc="-1" strike="noStrike">
                <a:solidFill>
                  <a:srgbClr val="ffffff"/>
                </a:solidFill>
                <a:latin typeface="華康魏碑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</a:rPr>
              <a:t>架構設計；但因下載及上傳皆無法限速，容易把頻寬吃光，導致其它使用者無法上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971640" y="5084640"/>
            <a:ext cx="2663640" cy="1123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小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X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筆錄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個資看光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軟體違法嗎？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主要是直接或間接造成第三者之損害；而當使用者在上傳或下載時，則有可能觸犯 “非法重製 ”、”非法散布”、”並未於合理使用範圍內 ” 等，極為容易吃上官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違法嗎？</a:t>
            </a:r>
            <a:br>
              <a:rPr sz="3600"/>
            </a:b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，就是為了要上、下傳的軟體；而因此，衍生了許多問題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　為有效嚇止非法軟體傳播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月，宣佈”公開傳輸權”、”散布權 ”、”暫時性重製”等科技條文，一般相信，這是針對網路上目無王法的盜版使用者，不啻是當頭棒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正確的網路使用觀念</a:t>
            </a:r>
            <a:br>
              <a:rPr sz="3600"/>
            </a:br>
            <a:br>
              <a:rPr sz="36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一、不下載／上傳／使用來源不明的資料或是商業套裝軟體。 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二、非必要不使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2P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軟體；若使用，請搭配限速軟體（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Limiter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三、常檢查是否有需要更新漏洞修補程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9" name="" descr="Link to Questions page"/>
          <p:cNvPicPr/>
          <p:nvPr/>
        </p:nvPicPr>
        <p:blipFill>
          <a:blip r:embed="rId1"/>
          <a:stretch/>
        </p:blipFill>
        <p:spPr>
          <a:xfrm>
            <a:off x="826920" y="213372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940360" y="1989000"/>
            <a:ext cx="3203640" cy="100836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電腦病毒趴趴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0360" y="3213000"/>
            <a:ext cx="3203640" cy="100800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電腦當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4365720"/>
            <a:ext cx="3203640" cy="100800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電腦與打字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0360" y="5661000"/>
            <a:ext cx="3203640" cy="100800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網路如虎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行人當心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09960" y="76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Times New Roman"/>
                <a:ea typeface="標楷體"/>
              </a:rPr>
              <a:t>利用網際網路繳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105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200" spc="-1" strike="noStrike">
                <a:solidFill>
                  <a:srgbClr val="ffff99"/>
                </a:solidFill>
                <a:latin typeface="Times New Roman"/>
              </a:rPr>
              <a:t>謝謝指教</a:t>
            </a:r>
            <a:endParaRPr b="1" i="1" lang="en-US" sz="14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ff99"/>
                </a:solidFill>
                <a:latin typeface="Times New Roman"/>
              </a:rPr>
              <a:t>網路</a:t>
            </a:r>
            <a:r>
              <a:rPr b="1" i="1" lang="en-US" sz="4000" spc="-1" strike="noStrike">
                <a:solidFill>
                  <a:srgbClr val="ffff99"/>
                </a:solidFill>
                <a:latin typeface="Times New Roman"/>
              </a:rPr>
              <a:t>ATM</a:t>
            </a:r>
            <a:r>
              <a:rPr b="1" i="1" lang="zh-TW" sz="4000" spc="-1" strike="noStrike">
                <a:solidFill>
                  <a:srgbClr val="ffff99"/>
                </a:solidFill>
                <a:latin typeface="Times New Roman"/>
              </a:rPr>
              <a:t>：繳費轉帳或查詢餘額</a:t>
            </a:r>
            <a:endParaRPr b="1" i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61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28920" y="590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Times New Roman"/>
                <a:ea typeface="標楷體"/>
              </a:rPr>
              <a:t>唐先生尋找的蟠龍花瓶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10200" y="6667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Times New Roman"/>
                <a:ea typeface="標楷體"/>
              </a:rPr>
              <a:t>網路線上遊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6248160" cy="453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逛</a:t>
            </a: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BBS</a:t>
            </a:r>
            <a:r>
              <a:rPr b="1" i="1" lang="zh-TW" sz="4400" spc="-1" strike="noStrike">
                <a:solidFill>
                  <a:srgbClr val="ffff99"/>
                </a:solidFill>
                <a:latin typeface="Times New Roman"/>
              </a:rPr>
              <a:t>、聊天室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0760" y="1924200"/>
            <a:ext cx="3513240" cy="493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80000" y="476280"/>
            <a:ext cx="2879640" cy="1008000"/>
          </a:xfrm>
          <a:prstGeom prst="ellipse">
            <a:avLst/>
          </a:prstGeom>
          <a:solidFill>
            <a:srgbClr val="ff33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影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網路交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2:48:49Z</dcterms:created>
  <dc:creator>鄭吉紘</dc:creator>
  <dc:description/>
  <dc:language>en-US</dc:language>
  <cp:lastModifiedBy>user</cp:lastModifiedBy>
  <dcterms:modified xsi:type="dcterms:W3CDTF">2008-05-05T00:34:35Z</dcterms:modified>
  <cp:revision>30</cp:revision>
  <dc:subject/>
  <dc:title>啥麼都不驚--更需網路媒體的素養 </dc:title>
</cp:coreProperties>
</file>