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2D0-34A6-47E0-ABF2-CA5AE91C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11F-0821-48E1-9297-4523E985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776-F92E-4A38-975B-BA28A049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731-261C-4C70-B23F-A2337070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676B-B5AA-457D-A766-DA2A725F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213B-47C5-4DA5-988D-184726DA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D2C7-8293-4826-B37D-DB96BD09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4D29-1EBD-4FA2-8A82-A03C41F9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471A-F9BD-4386-B2DE-DCD43038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455E-799F-41B6-9153-EF603FB3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0444-359B-4DE9-9372-C9D38961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773-8D6D-42A2-A177-4CD78FA1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A2CA-0A97-42D5-B4C4-F906FB47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8455-0A85-4C1B-B41A-585F9ADA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E35B-4985-4E1F-B565-7257B32B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373A-68E3-4EFE-8673-FB5B7E78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77B7-6969-4AC9-85EB-820CD1D9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F79-D06E-404E-BDB2-439C44C0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0D8-8BFA-4CD5-8EED-CF29FF8F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BD3-97D1-4282-A6A4-8136F50F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ADD-231E-4F2B-A712-F63B02E0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AE3A-2136-4B3B-9878-E328C9BC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B05F-0EBF-4E94-8803-B8909AAF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F8E-870B-408A-A92F-DBB42431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DC9F-82D1-40E5-B84C-993B85306843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35000" y="476280"/>
            <a:ext cx="9009000" cy="1052640"/>
            <a:chOff x="135000" y="476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425520" y="584280"/>
              <a:ext cx="711360" cy="474840"/>
              <a:chOff x="425520" y="584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25520" y="584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08560" y="584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49360" y="1006560"/>
              <a:ext cx="737640" cy="474840"/>
              <a:chOff x="549360" y="1006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549360" y="1006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18000" y="1006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35000" y="933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0040" y="476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51080" y="1298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859D-7707-4229-A928-D0C00CC6BCF7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tp://ftp.tnc.edu.tw/Sysop/sfs3/install-tools/INSTAL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p/test.php" TargetMode="External"/><Relationship Id="rId2" Type="http://schemas.openxmlformats.org/officeDocument/2006/relationships/hyperlink" Target="http://ip/test.php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tp://ftp.tnc.edu.tw/Sysop/urh/urh73-1.0.1.tar.gz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tp://ftp.tnc.edu.tw/Sysop/sfs3/sfs3/beta/sfs-3.0.b1bugfix-200309231431.tar.gz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333399"/>
                </a:solidFill>
                <a:latin typeface="Tahoma"/>
                <a:ea typeface="標楷體"/>
              </a:rPr>
              <a:t>自由軟體</a:t>
            </a:r>
            <a:r>
              <a:rPr b="0" lang="zh-TW" sz="7200" spc="-1" strike="noStrike">
                <a:solidFill>
                  <a:srgbClr val="333399"/>
                </a:solidFill>
                <a:latin typeface="Tahoma"/>
                <a:ea typeface="標楷體"/>
              </a:rPr>
              <a:t>SFS3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16000" y="1916280"/>
            <a:ext cx="6872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SFS3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學務系統是採用開放原始程式碼所架構的校務行政電腦化系統，目標是希望使各中小學校能擁有一個自由開放強大的校務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化平台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本系統採用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Apache+PHP+MySQL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，具備強大的模組功能，並且跨平台支援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Linux/FreeBSD/Windows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等作業環境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最大的特色是：自由、開放、模組化、高度可擴展能力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SFS3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目前由台中縣網，台南縣網和台中市網共同合作，採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CVS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合作管理原始碼，提供用戶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upsfs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自動升級工具，架設容易且提供自動安裝程序以及操作手冊說明文件等資源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99"/>
                </a:solidFill>
                <a:latin typeface="Tahoma"/>
              </a:rPr>
              <a:t>修改 </a:t>
            </a:r>
            <a:r>
              <a:rPr b="0" lang="zh-TW" sz="3600" spc="-1" strike="noStrike">
                <a:solidFill>
                  <a:srgbClr val="333399"/>
                </a:solidFill>
                <a:latin typeface="Tahoma"/>
              </a:rPr>
              <a:t>/etc/php4/apache/php.in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mem_limit = </a:t>
            </a: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建議加大為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-3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upload_max_filesize = </a:t>
            </a:r>
            <a:r>
              <a:rPr b="0" lang="zh-TW" sz="3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視上傳需要加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使用 </a:t>
            </a: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SFS3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在瀏覽器中執行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http://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您的主機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/sfs3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登入之預設帳號為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1001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，預設密碼為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新增模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設定模組權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調整模組設定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例：數位相本、圖書管理、校務佈告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SFS3</a:t>
            </a: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的更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手動更新 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1.02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版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建議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自動更新  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1.03rc2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版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在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crontab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排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/root/upsfs --batch upsfs.tnc.edu.tw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SFS3 </a:t>
            </a: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的備份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備份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script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backup_data.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#! /bin/c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set date=`date "+%d"`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set backupname=backup_sfs3data_$date.tar.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cd /var/lib/mysql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if -e sfs3 t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ar zcf $backupname sfs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cp -f $backupname /var/mail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SFS3 </a:t>
            </a: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的備份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備份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script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backup_run.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#! /bin/c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set date=`date "+%d"`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set backupname=backup_sfs3run_$date.tar.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cd /var/ww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if -e sfs3 t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ar zcf $backupname sfs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cp -f $backupname /var/mail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SFS3 </a:t>
            </a: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的回存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回存 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script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restore_data.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! /bin/cs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set date=`date "+%d"`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echo –n “restore date mmdd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set restdate=$&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/etc/init.d/mysql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cd /var/lib/mysq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if –e backup_sfs3data_$restdate.tar.gz th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if –e sfs3 th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mv sfs3 sfs3_$da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tar zxf backup_sfs3data_$restdate.tar.g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/etc/init.d/mysql 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SFS3 </a:t>
            </a: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的回存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回存 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script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restore_run.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! /bin/cs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set date=`date "+%d"`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echo –n “restore run mmdd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set restdate=$&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/etc/init.d/apache sto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cd /var/ww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if –e backup_sfs3run_$restdate.tar.gz th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if –e sfs3 th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mv sfs3 sfs3_$da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ahoma"/>
              </a:rPr>
              <a:t>tar zxf backup_sfs3run_$restdate.tar.g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/etc/init.d/apache 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使用</a:t>
            </a: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openoffice </a:t>
            </a:r>
            <a:r>
              <a:rPr b="1" lang="zh-TW" sz="4000" spc="-1" strike="noStrike">
                <a:solidFill>
                  <a:srgbClr val="333399"/>
                </a:solidFill>
                <a:latin typeface="Tahoma"/>
              </a:rPr>
              <a:t>列印相關報表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下載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openoffi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openoffice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補給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333399"/>
                </a:solidFill>
                <a:latin typeface="Tahoma"/>
              </a:rPr>
              <a:t>系統平台</a:t>
            </a:r>
            <a:r>
              <a:rPr b="0" lang="zh-TW" sz="6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Linu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Deb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Mandr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Red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FreeBS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333399"/>
                </a:solidFill>
                <a:latin typeface="Tahoma"/>
              </a:rPr>
              <a:t>相關套件及程式組安裝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rpm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pt-get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tarball (</a:t>
            </a:r>
            <a:r>
              <a:rPr b="0" lang="zh-TW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安裝說明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pache+PHP+MySQ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*mysql 3.23.56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* apache 1.3.27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* php 4.3.1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* expat 1.95.5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* zlib 1.1.4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* libiconv 1.8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* Sablot 0.98rc2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* libxml2 2.5.4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數位相本需加裝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(unzip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imagemagic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333399"/>
                </a:solidFill>
                <a:latin typeface="Tahoma"/>
              </a:rPr>
              <a:t>相關套件及程式組檢視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zh-TW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ip/test.php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(test.php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之內容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&lt;? phpinfo(); ?&gt;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檢查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php4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是否支援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mysql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libiconv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zlib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gd2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及未來會需要的模組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(expat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sablot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libxm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系統及套件更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debia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pt-get 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pt-get 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redha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utoURPM</a:t>
            </a:r>
            <a:r>
              <a:rPr b="0" lang="zh-TW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zh-TW" sz="2800" spc="-1" strike="noStrike" u="sng">
                <a:solidFill>
                  <a:srgbClr val="ff0000"/>
                </a:solidFill>
                <a:uFillTx/>
                <a:latin typeface="Wingdings"/>
                <a:ea typeface="Wingdings"/>
                <a:hlinkClick r:id="rId1"/>
              </a:rPr>
              <a:t>urh73-1.0.1.tar.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debian 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還原光碟需執行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tp-get 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tp-get 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pt-get install mysql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pt-get install php4-mysq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pt-get install php4-gd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pt-get install php4-domx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pt-get install php4-xs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mysqladmin –u root password ‘your pass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pt-get install unz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apt-get install imagemagi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99"/>
                </a:solidFill>
                <a:latin typeface="Tahoma"/>
              </a:rPr>
              <a:t>Webmin</a:t>
            </a:r>
            <a:r>
              <a:rPr b="0" lang="zh-TW" sz="6000" spc="-1" strike="noStrike">
                <a:solidFill>
                  <a:srgbClr val="333399"/>
                </a:solidFill>
                <a:latin typeface="Tahoma"/>
              </a:rPr>
              <a:t>的問題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cp –R /etc/webmin /etc/webmin_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儲存舊的設定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mkdir –p /var/tmp/webmin_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mv /var/lib/dpkg/info/webmin* /var/tmp/webmin_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apt-get install webm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mv /etc/webmin /etc/webmin_n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mv /etc/webmin_c /etc/webm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還原舊的設定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 algn="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---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摘自網路中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使用自由軟體</a:t>
            </a:r>
            <a:r>
              <a:rPr b="1" lang="zh-TW" sz="6000" spc="-1" strike="noStrike">
                <a:solidFill>
                  <a:srgbClr val="333399"/>
                </a:solidFill>
                <a:latin typeface="Tahoma"/>
              </a:rPr>
              <a:t>sfs3</a:t>
            </a:r>
            <a:r>
              <a:rPr b="0" lang="zh-TW" sz="6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</a:rPr>
              <a:t>下載 </a:t>
            </a:r>
            <a:r>
              <a:rPr b="0" lang="zh-TW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SFS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ahoma"/>
              </a:rPr>
              <a:t>安裝 </a:t>
            </a:r>
            <a:r>
              <a:rPr b="1" lang="zh-TW" sz="2400" spc="-1" strike="noStrike">
                <a:solidFill>
                  <a:srgbClr val="000000"/>
                </a:solidFill>
                <a:latin typeface="Tahoma"/>
              </a:rPr>
              <a:t>SFS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mv sfs-3.0.b1bugfix-200309231431.tar.gz /var/www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cd /var/ww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tar xvzf sfs-3.0.b1bugfix-200309231431.tar.g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執行初步設定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./setu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接著在您的瀏覽器中執行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ff0000"/>
                </a:solidFill>
                <a:uFillTx/>
                <a:latin typeface="Tahoma"/>
              </a:rPr>
              <a:t>http://</a:t>
            </a:r>
            <a:r>
              <a:rPr b="0" lang="zh-TW" sz="2000" spc="-1" strike="noStrike" u="sng">
                <a:solidFill>
                  <a:srgbClr val="ff0000"/>
                </a:solidFill>
                <a:uFillTx/>
                <a:latin typeface="Tahoma"/>
              </a:rPr>
              <a:t>您的主機</a:t>
            </a:r>
            <a:r>
              <a:rPr b="0" lang="zh-TW" sz="2000" spc="-1" strike="noStrike" u="sng">
                <a:solidFill>
                  <a:srgbClr val="ff0000"/>
                </a:solidFill>
                <a:uFillTx/>
                <a:latin typeface="Tahoma"/>
              </a:rPr>
              <a:t>/sfs3/install.ph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ahoma"/>
              </a:rPr>
              <a:t>填妥相關設定，按 “安裝” 鈕，約幾秒之後，即可安裝成功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修改 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/etc/apache/httpd.conf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.  AddDefaultCharset on  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#AddDefaultCharset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在檔尾加入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Alias /upfiles/ "/var/www/sfs3/data/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&lt;Directory "/var/www/sfs3/data"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Options 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AllowOverride N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Order allow,de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Allow from 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&lt;/Directory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8T14:52:45Z</dcterms:created>
  <dc:creator>usr</dc:creator>
  <dc:description/>
  <dc:language>en-US</dc:language>
  <cp:lastModifiedBy>usr</cp:lastModifiedBy>
  <dcterms:modified xsi:type="dcterms:W3CDTF">2004-04-27T02:30:28Z</dcterms:modified>
  <cp:revision>14</cp:revision>
  <dc:subject/>
  <dc:title>自由軟體SFS3</dc:title>
</cp:coreProperties>
</file>